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7A4F-DB1A-4ACF-AAFC-47811F700A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7B7D-24E3-454F-9CED-C2C950DEC0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странице – переход к терминам. Возвращение к слайду – нажать на кнопку со стрел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F648-9F19-47FD-9EE0-5D049165A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 (лат. audit - он слышит, англ. audit - проверка, ревизия) – анализ  деятельности в данном случае педагога, проверка соответствия деятельности определенным установленным правилам, нормам проводимая квалифицированными специалис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F47D-C9DB-4949-8A8C-724F46CBB1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6A15-9E69-4CEF-BFB3-347D798AB9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этого вступительное слово из введения в Про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B11F-2662-4347-9635-3C5A2191C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этого вступительное слово из введения в Про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4B30-F1AF-446F-8D70-3C3559FBB9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й закон № 273-ФЗ от 29.12.2012 «Об образовании в Российской Федерации» (далее – ФЗ) относит дошкольное образование к одному из уровней общего. Кроме того, в ФЗ, наряду с такой функцией, как уход и присмотр за ребенком, за дошкольными организациями закрепляется обязанность осуществлять образовательную деятельность, выделяемую в отдельную услугу. В соответствии с законом, сегодня любая школа вправе реализовывать программы дошкольного образования. Отсюда возникает необходимость единого подхода к профессиональным компетенциям педагога дошкольного образования и учител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?? Есть требования к педагогу дошкольного образования, начальной школы, а основной и старшей – есть ли необход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CC8-07D3-4AA7-B516-4BBFE2BF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CA2-39E0-42E6-8A75-DD1B6118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933-9A63-4A51-9D83-A6319C18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082-4EA9-4EC3-9DA0-233748C9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89EB-79C3-4C7A-AE3D-EFD3E49F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FA3D-0D81-41DE-8355-FA9BADA1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A3CD-ED30-4B50-8127-22469C4B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27C4-818C-4B15-8635-06DD1898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457A-04F4-4177-AA42-4C956E1D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5988-4C27-453A-B6D5-66C3CB44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55A7-14E7-4B0D-88D6-6E92CCBF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0E1-6F9A-4AD5-9779-09467FEE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4ECC-7BA4-427A-8D6D-F1DAA98B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7828-5A94-48F7-949E-FFEDBBD2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98BD-C7E2-4E4F-B44F-BD379B75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7744-E111-4904-9CFA-FD9A2C01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8A6D-AC8E-41E0-9A36-2E92B07F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6857-BFD8-4665-858A-7CB2249C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4B549-CC95-48D9-ABB5-ADA1FFE5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D85F-C3E2-4019-A6A5-126F28F2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FC15-43A8-456D-B70B-451E30EE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03A7E-131D-4A02-AC23-37D180C4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8BB-2D7D-4331-BA7D-22A3E31A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6884A-DB0D-4283-B8A0-A2912B67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A3D2-F95B-4FE0-ADE1-8DCCCB25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347D4-C1DA-4322-AC47-98DA4D64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3576-2079-4827-BE95-7EE373FD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B78D-4BDB-49D1-A8E6-E9877286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5200C-48A1-44EE-AE60-982ACB6B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D8F3-53C5-4050-989C-799A952A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A9503-9201-476B-8773-2BA40EC1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1882E-60D8-4531-B3DD-7E54352D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1AF24-D7C8-4BBF-B90D-D062D71E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A38-1A33-44D9-B969-5CBE1EB4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3689D-82F8-4D1B-8F7F-5FEC9B68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BE7E-A125-4BA8-9D91-C50FB024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E74B0-7D8C-4837-90D4-8908A160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172BE-2FA6-4BCC-9A99-132D0E83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9C704-BD89-41CC-857A-72C89255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C10C-1C73-4669-8925-35FE1712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0F636-F4B1-4984-8CFF-2D362250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D820C-0850-4590-BF7E-DC7F4053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7A438-B1FD-42AA-8ADC-C42B0B3E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7DCA9-B64F-4737-89EC-B95C5BF2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D5B-06B1-4FF5-A99C-55467272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A2539-101A-4808-8793-A9609565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0B1D6-4E9A-4BEB-951D-2D65081C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B585C-1D04-4E8C-B922-401E2D1E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F0430-6798-4A06-ABDA-7387CC94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960CA-3ECF-454C-8459-240539FB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C984C-F10A-4482-A62C-42AF5572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E94AA-B323-48DA-8AC4-75190DAE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DE627-D868-4006-85C0-01460B28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FCD69-7F7E-4C13-8EE8-8918D244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09291-1670-445B-A9F1-6C665C05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B40-4CC5-4E60-BCEF-ADC66011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0BF58-C020-4C87-B539-013B5927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F0093-67AA-4804-BBE4-0901094C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CC81-6C32-43EA-AC4D-E0BEAFBB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89554-A54D-4A1C-94BA-C5191560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8504D-F903-4669-99C3-EBE6E6D2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07052-890C-4F8A-A8E7-57B3E588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3EFA5-0F67-4890-97BD-FC82E54C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1B42D-7C21-4036-ABC1-BB654B39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2D35C-D520-4D36-8CD1-7B5C2DC2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2491D-6657-41EE-8C4C-49FD2B3C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1D3-4E26-443F-A5D1-B73B306B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A4018-4504-4FDC-B25E-E4447FCF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4B642-1AB6-4B16-8D51-D31737AA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EF776-3298-489C-89BC-C2727983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B291D-F488-4C20-BF1E-ED8F94A9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B7283-E7BE-41FB-A36A-3C8F54EC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51EEF-91A5-4AAF-99FD-60EB35BB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61C58-5D16-4455-8B7B-F577C876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97355-05AD-47AB-A20A-21B74733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8CF52-8B86-4F3E-A573-63818361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7C4A2-7D3F-467E-9623-4567DB8A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75F-C0C8-42E1-AB52-2CBE7D40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5DD8A-E666-45E9-9E0B-A282BC3F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107AA-0078-4D76-8F7A-E2B3FBAF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1B2B6-2095-4DC1-8663-72DA20EB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A79E7-F4BA-455B-BE9C-AD817DDD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A4591-B45C-4135-9E4C-108BBB25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9EF-0239-4149-8476-A5F59FBD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6242-EBC9-461A-BE63-C9D4DA90E8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7675-56A8-40D7-B09A-7FD5CBC836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142B-F9BF-4B29-B709-E861F3D752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1846-A06C-4B66-8649-50E5B3D8452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9085-B5D2-40C5-B50C-E70BA20EFA5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8213-72F7-4EA6-BB65-05EDB62137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81E1-D19A-49EB-808C-B702FF2CE5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36.xml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7.xml"/><Relationship Id="rId3" Type="http://schemas.openxmlformats.org/officeDocument/2006/relationships/slide" Target="slide35.xml"/><Relationship Id="rId4" Type="http://schemas.openxmlformats.org/officeDocument/2006/relationships/slide" Target="slide38.xml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совет</a:t>
            </a:r>
            <a:r>
              <a:rPr b="1" i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4300"/>
            </a:br>
            <a:r>
              <a:rPr b="1" i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</a:t>
            </a: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фессиональный  стандарт педагога»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395280" y="1687680"/>
            <a:ext cx="874872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отражает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структуру его профессиональ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бучение, воспитание и развитие ребенка. В соответствии со стратегией современного образования в меняющемся мире, он существенно наполняется психолого-педагогическими компетенциями, призванными помочь учителю в решении новых стоящих перед ним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выдвиг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личностным качествам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тделимым от его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профессиональных компетен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их как: готовность учить всех без исключения детей, вне зависимости от их склонностей, способностей, особенностей развития, ограниченных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 станд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1258920" y="2061360"/>
            <a:ext cx="7561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координированный рост свободы и ответственности педагога за результаты свое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ать педагога на постоянное повышение квалиф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0" y="47628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ональный стандарт педагога выполняет функции, призван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0"/>
          <p:cNvSpPr/>
          <p:nvPr/>
        </p:nvSpPr>
        <p:spPr>
          <a:xfrm>
            <a:off x="1116000" y="1484280"/>
            <a:ext cx="7201080" cy="1514520"/>
          </a:xfrm>
          <a:prstGeom prst="roundRect">
            <a:avLst>
              <a:gd name="adj" fmla="val 34972"/>
            </a:avLst>
          </a:prstGeom>
          <a:solidFill>
            <a:srgbClr val="ccffcc">
              <a:alpha val="14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2195640" y="549360"/>
            <a:ext cx="61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Область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944880" y="1484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168920" y="1989000"/>
            <a:ext cx="2215440" cy="459720"/>
          </a:xfrm>
          <a:prstGeom prst="rect">
            <a:avLst/>
          </a:prstGeom>
          <a:solidFill>
            <a:srgbClr val="ffcc9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шко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417840" y="1989000"/>
            <a:ext cx="1956240" cy="459720"/>
          </a:xfrm>
          <a:prstGeom prst="rect">
            <a:avLst/>
          </a:prstGeom>
          <a:solidFill>
            <a:srgbClr val="ccff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5443560" y="1989000"/>
            <a:ext cx="2757960" cy="4597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го сред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5760" y="24922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0" y="32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ессиональный стандарт педагога может применя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6"/>
          <p:cNvSpPr/>
          <p:nvPr/>
        </p:nvSpPr>
        <p:spPr>
          <a:xfrm>
            <a:off x="324000" y="3863880"/>
            <a:ext cx="2735280" cy="2519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при приеме на работу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бщеобразова-тельное учрежде-ние на должность «педагог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6227640" y="4365720"/>
            <a:ext cx="2664000" cy="2016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амими образова-тельными орга-низаци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в случае предостав-ления им соот-ветствующих пол-номоч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3276720" y="4365720"/>
            <a:ext cx="2663640" cy="2016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егиональными орган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пол-нительной власти, осуществляющи-ми управление в сфере образова-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9"/>
          <p:cNvSpPr/>
          <p:nvPr/>
        </p:nvSpPr>
        <p:spPr>
          <a:xfrm>
            <a:off x="395280" y="307188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3276720" y="4005360"/>
            <a:ext cx="5616360" cy="360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при проведении аттестации педагог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826920" y="1509840"/>
            <a:ext cx="79758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необходимую квалификацию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, которая влияет на результаты обучения, воспитания и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ую подготов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дагога для получения высоких результатов е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ую осведомл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дагога о предъявляемых к нему требова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ова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ов в решение задачи повышения качества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1332000" y="26028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профессиональ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та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"/>
          <p:cNvSpPr/>
          <p:nvPr/>
        </p:nvSpPr>
        <p:spPr>
          <a:xfrm>
            <a:off x="1042920" y="143028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едагога (личностные качества и профессиональные компетенции, необходимые педагогу для осуществления развивающей деятель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компетенции педагога,  отражающие специфику работы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требования к учителям – предметникам (Приложение 3: математика и информатика, русский язы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ценки выполнения требований профессионального стандарта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1. ИКТ -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2. Психолого-педагогические требования к квалификаци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369720" y="54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Термины и определения применительно к педагогу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"/>
          <p:cNvSpPr/>
          <p:nvPr/>
        </p:nvSpPr>
        <p:spPr>
          <a:xfrm>
            <a:off x="1187280" y="1197000"/>
            <a:ext cx="7848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Квалификация педагог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отражает уровень профессиональной подготовки учителя и его готовность к труду в сфере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Профессиональная компетенц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особность успешно действовать на основе практического опыта, умения и знаний при решении профессиональны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Региональное дополнение к профессиональному стандарт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включающий дополнительные требования к квалификации педагога, позволяющие ему выполнять свои обязанности в реальном социокультурном контекс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Инклюзивное или включенное образование</a:t>
            </a:r>
            <a:r>
              <a:rPr b="0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рмин, используемый для описания процесса обучения детей с особыми потребностями в общеобразовательных (массовых) шко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684360" y="-438120"/>
            <a:ext cx="8316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"/>
          <p:cNvSpPr/>
          <p:nvPr/>
        </p:nvSpPr>
        <p:spPr>
          <a:xfrm>
            <a:off x="1187280" y="890640"/>
            <a:ext cx="7705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Внутренний стандарт образовательной 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определяющий квалификационные требования к педагогу, соответствующий реализуемым в данной организации образовательным программ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Ключевые области стандарта педаг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делы стандарта, соответствующие структуре профессиональной деятельности педагога: обучение, воспитание и развитие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Профессиональная ИКТ-компетент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валифицированное использование общераспространенных в данной профессиональной области в развитых странах средств ИКТ при решении профессиональных задач там, где это необходи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1187280" y="261000"/>
            <a:ext cx="7956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Ауд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стематический, независимый и документируемый процесс получения свидетельств аудита и их объективного оценивания в целях установления степени выполнения треб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1116000" y="1989720"/>
            <a:ext cx="784872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Внутренний аудит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аудит, осуществляемый самой организацией или другой организацией от ее имени для внутренних целей. Например, внутренний аудит может быть проведен для подтверждения результативности системы менеджмента или 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оценки квалификации работников, а также оценки соответствия предъявляемым к ним профессиональным треб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1116000" y="4797360"/>
            <a:ext cx="80280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Внешний аудит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удит, проводимый независимой от образовательной организации стороной. Внешний аудит может быть осуществлен 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надзорными органа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организациями, представляющими интересы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 работы в групп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Прямоугольник 2"/>
          <p:cNvSpPr/>
          <p:nvPr/>
        </p:nvSpPr>
        <p:spPr>
          <a:xfrm>
            <a:off x="1187280" y="1484280"/>
            <a:ext cx="73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появляется нового в перечне трудовых действий, необходимых умений и знаний для учителей Вашей ступени образования/предметной обл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трудности могут возникнуть в связи с введением профессионального стандарта педаго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дагогическая деятельность по реализации программ основного и среднего общего образования. Трудовые действия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50920" y="1052640"/>
          <a:ext cx="8858160" cy="5771880"/>
        </p:xfrm>
        <a:graphic>
          <a:graphicData uri="http://schemas.openxmlformats.org/drawingml/2006/table">
            <a:tbl>
              <a:tblPr/>
              <a:tblGrid>
                <a:gridCol w="8858160"/>
              </a:tblGrid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общекультурных компетенций и понимания места предмета в общей картине 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04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на основе анализа учебной деятельности обучающегося оптимальных (в том или ином предметном образовательном контексте) способов его обучения и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3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 совместно с обучающимся, его родителями (законными представителями), другими участниками образовательного процесса (педагог-психолог, учитель-дефектолог, методист и т. д.)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ы его ближайшего развития, разработка и реализация (при необходимости) индивидуального образовательного маршрута и индивидуальной программы развития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3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ого образовательного процесса для группы, класс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отдельных контингентов обучающихся с выдающимися способностями  и/или особыми образовательными потребностями на основе имеющихся типовых программ и собственных разработок с учетом специфики состава обучающихся, уточнение и модификация план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08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х языковых программ (в том числе русского как иностранного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рограмм повышения языковой культуры, и развития навыков поликультурного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ое с учащимися использование иноязычных источников информации, инструментов перевода, произ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олимпиад, конференций, турниров математических и лингвистических игр в школе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Gill Sans MT"/>
              </a:rPr>
              <a:t>УТВЕРЖДЕН </a:t>
            </a:r>
            <a:br>
              <a:rPr sz="3900"/>
            </a:br>
            <a:r>
              <a:rPr b="0" lang="ru-RU" sz="1600" spc="-1" strike="noStrike">
                <a:solidFill>
                  <a:srgbClr val="572314"/>
                </a:solidFill>
                <a:latin typeface="Gill Sans MT"/>
              </a:rPr>
              <a:t>приказом Министерства труда и социальной защиты Российской Федерации 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Gill Sans MT"/>
              </a:rPr>
              <a:t>от «18» октября 2013 г. № 544н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700280"/>
            <a:ext cx="7499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 (педагогическая деятельность в дошкольном, начальном общем, основном общем, среднем общем образовании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спитатель, учитель)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дагогическая деятельность по реализации программ основного и среднего общего образования. Необходимые умения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24000" y="1268280"/>
          <a:ext cx="8572320" cy="5348520"/>
        </p:xfrm>
        <a:graphic>
          <a:graphicData uri="http://schemas.openxmlformats.org/drawingml/2006/table">
            <a:tbl>
              <a:tblPr/>
              <a:tblGrid>
                <a:gridCol w="8572320"/>
              </a:tblGrid>
              <a:tr h="8226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ть современные образовательные технологии, включая информационные, а также цифровые образовательные ресур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ь учебные занятия, опираясь на достижения в области педагогической и психологической наук, возрастной физиологии и школьной гигиены, а также современных информационных технологий и методик обуч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ть и осуществлять учебный процесс в соответствии с основной общеобразовательной программ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08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атывать рабочую программу по предмету, курсу на основе примерных основных общеобразовательных программ и обеспечивать ее выполнени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самостоятельную деятельность обучающихся, в том числе исследовательск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атывать и реализовывать проблемное обучение, осуществлять связь обучения по предмету (курсу, программе) с практикой, обсуждать с обучающимися актуальные события соврем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контрольно-оценочную деятельность в образовательном процесс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дагогическая деятельность по реализации программ основного и среднего общего образования. Необходимые умения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95280" y="907920"/>
          <a:ext cx="8501040" cy="572616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1420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современные способы оценивания в условиях информационно-коммуникационных технологий (ведение электронных форм документации, в том числе электронного журнала и дневников обучающихс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9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разнообразные формы, приемы, методы и средства обучения, в том числе по индивидуальным учебным планам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ным курсам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 федеральных государственных образовательных стандартов основного общего образования и средне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ть основами работы с текстовыми редакторами, электронными таблицами, электронной почтой и браузерами, мультимедийным оборудование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ть методами убеждения, аргументации своей пози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ть контакты с обучающимися разного возраста и их родителями (законными представителями), другими педагогическими и иными работник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ть технологиями диагностики причин конфликтных ситуаций, их профилактики и раз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дагогическая деятельность по реализации программ основного и среднего общего образования. Необходимые знания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68360" y="981000"/>
          <a:ext cx="8427960" cy="5688000"/>
        </p:xfrm>
        <a:graphic>
          <a:graphicData uri="http://schemas.openxmlformats.org/drawingml/2006/table">
            <a:tbl>
              <a:tblPr/>
              <a:tblGrid>
                <a:gridCol w="8427960"/>
              </a:tblGrid>
              <a:tr h="1336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общетеоретических дисциплин в объеме, необходимых для решения педагогических, научно-методических и организационно-управленческих задач (педагогика, психология, возрастная физиология; школьная гигиена; методика преподавания предме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ы и учебники по преподаваемому предме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6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ия и методы управления образовательными системами, методика учебной и воспитательной работы, требования к оснащению и оборудованию учебных кабинетов и подсобных помещений к ним, средства обучения и их дидактические возмож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 педагогические технологии реализации компетентностного подхода с учетом возрастных и индивидуальных особенностей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 технологии поликультурного, дифференцированного и развивающе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экологии, экономики, социологи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внутреннего распоряд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по охране труда и требования к безопасности образовательной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1187280" y="1165680"/>
            <a:ext cx="7777440" cy="53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одаренными учащими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условиях реализации программ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инклюзивного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учащимися, имеющими проблемы в разви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евиантными, зависимыми, социально запущенными и социально уязвимыми учащимися, имеющими серьезные отклонения в пове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русского языка учащимся, для которых он не является род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унок2"/>
          <p:cNvPicPr/>
          <p:nvPr/>
        </p:nvPicPr>
        <p:blipFill>
          <a:blip r:embed="rId2"/>
          <a:stretch/>
        </p:blipFill>
        <p:spPr>
          <a:xfrm>
            <a:off x="324000" y="189000"/>
            <a:ext cx="515880" cy="10951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"/>
          <p:cNvSpPr/>
          <p:nvPr/>
        </p:nvSpPr>
        <p:spPr>
          <a:xfrm>
            <a:off x="839880" y="549360"/>
            <a:ext cx="81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сть наполнения профессионального стандарта педагога новыми компетенц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ль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116000" y="907560"/>
            <a:ext cx="781848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включени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го коллектива школы в изучение профессионального  стандарта педагог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: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оложения стандарта педагог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отдельные пункты стандар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Рисунок1"/>
          <p:cNvPicPr/>
          <p:nvPr/>
        </p:nvPicPr>
        <p:blipFill>
          <a:blip r:embed="rId1"/>
          <a:stretch/>
        </p:blipFill>
        <p:spPr>
          <a:xfrm>
            <a:off x="0" y="18900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0" y="90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ен профессиональный стандарт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3276720" y="155736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3408480" y="2565360"/>
            <a:ext cx="5724360" cy="93672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3276720" y="386244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3276720" y="472608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3276720" y="5589720"/>
            <a:ext cx="5724360" cy="105876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324000" y="364320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 это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5"/>
          <p:cNvCxnSpPr>
            <a:stCxn id="337" idx="3"/>
            <a:endCxn id="332" idx="1"/>
          </p:cNvCxnSpPr>
          <p:nvPr/>
        </p:nvCxnSpPr>
        <p:spPr>
          <a:xfrm flipV="1">
            <a:off x="2916000" y="1953720"/>
            <a:ext cx="361080" cy="197856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39" name="AutoShape 16"/>
          <p:cNvCxnSpPr>
            <a:stCxn id="337" idx="3"/>
            <a:endCxn id="333" idx="1"/>
          </p:cNvCxnSpPr>
          <p:nvPr/>
        </p:nvCxnSpPr>
        <p:spPr>
          <a:xfrm flipV="1">
            <a:off x="2916000" y="3033360"/>
            <a:ext cx="492840" cy="89928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40" name="AutoShape 17"/>
          <p:cNvCxnSpPr>
            <a:stCxn id="337" idx="3"/>
            <a:endCxn id="334" idx="1"/>
          </p:cNvCxnSpPr>
          <p:nvPr/>
        </p:nvCxnSpPr>
        <p:spPr>
          <a:xfrm>
            <a:off x="2916000" y="3932280"/>
            <a:ext cx="361080" cy="32760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41" name="AutoShape 18"/>
          <p:cNvCxnSpPr>
            <a:stCxn id="337" idx="3"/>
            <a:endCxn id="335" idx="1"/>
          </p:cNvCxnSpPr>
          <p:nvPr/>
        </p:nvCxnSpPr>
        <p:spPr>
          <a:xfrm>
            <a:off x="2916000" y="3931920"/>
            <a:ext cx="361080" cy="119124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42" name="AutoShape 19"/>
          <p:cNvCxnSpPr>
            <a:stCxn id="337" idx="3"/>
            <a:endCxn id="336" idx="1"/>
          </p:cNvCxnSpPr>
          <p:nvPr/>
        </p:nvCxnSpPr>
        <p:spPr>
          <a:xfrm>
            <a:off x="2916000" y="3932280"/>
            <a:ext cx="361080" cy="218808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Рисунок1"/>
          <p:cNvPicPr/>
          <p:nvPr/>
        </p:nvPicPr>
        <p:blipFill>
          <a:blip r:embed="rId1"/>
          <a:stretch/>
        </p:blipFill>
        <p:spPr>
          <a:xfrm>
            <a:off x="0" y="18900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"/>
          <p:cNvSpPr/>
          <p:nvPr/>
        </p:nvSpPr>
        <p:spPr>
          <a:xfrm>
            <a:off x="0" y="90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ен профессиональный стандарт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3276720" y="155736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 реализации стратегии образования в меняющемся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3276720" y="2421000"/>
            <a:ext cx="5724360" cy="136836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 повышения качества образования и выхода отечественного образования на международн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276720" y="386244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ивный измеритель квалификации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3276720" y="472608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о отбора педагогических кадров в учреждения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276720" y="5589720"/>
            <a:ext cx="5724360" cy="105876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 для формирования трудового договора, фиксирующего отношения между работником и работода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324000" y="364320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 это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AutoShape 15"/>
          <p:cNvCxnSpPr>
            <a:stCxn id="350" idx="3"/>
            <a:endCxn id="345" idx="1"/>
          </p:cNvCxnSpPr>
          <p:nvPr/>
        </p:nvCxnSpPr>
        <p:spPr>
          <a:xfrm flipV="1">
            <a:off x="2916000" y="1953720"/>
            <a:ext cx="361080" cy="197856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52" name="AutoShape 16"/>
          <p:cNvCxnSpPr>
            <a:stCxn id="350" idx="3"/>
            <a:endCxn id="346" idx="1"/>
          </p:cNvCxnSpPr>
          <p:nvPr/>
        </p:nvCxnSpPr>
        <p:spPr>
          <a:xfrm flipV="1">
            <a:off x="2916000" y="3104640"/>
            <a:ext cx="361080" cy="82800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53" name="AutoShape 17"/>
          <p:cNvCxnSpPr>
            <a:stCxn id="350" idx="3"/>
            <a:endCxn id="347" idx="1"/>
          </p:cNvCxnSpPr>
          <p:nvPr/>
        </p:nvCxnSpPr>
        <p:spPr>
          <a:xfrm>
            <a:off x="2916000" y="3932280"/>
            <a:ext cx="361080" cy="32760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54" name="AutoShape 18"/>
          <p:cNvCxnSpPr>
            <a:stCxn id="350" idx="3"/>
            <a:endCxn id="348" idx="1"/>
          </p:cNvCxnSpPr>
          <p:nvPr/>
        </p:nvCxnSpPr>
        <p:spPr>
          <a:xfrm>
            <a:off x="2916000" y="3931920"/>
            <a:ext cx="361080" cy="119124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55" name="AutoShape 19"/>
          <p:cNvCxnSpPr>
            <a:stCxn id="350" idx="3"/>
            <a:endCxn id="349" idx="1"/>
          </p:cNvCxnSpPr>
          <p:nvPr/>
        </p:nvCxnSpPr>
        <p:spPr>
          <a:xfrm>
            <a:off x="2916000" y="3932280"/>
            <a:ext cx="361080" cy="218808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539640" y="1628640"/>
            <a:ext cx="536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е 2012 года президент РФ Владимир Путин поручил разработать профессиональные стандарты для учителей русского языка и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539640" y="260280"/>
            <a:ext cx="83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Немного из истории  Стандарта</a:t>
            </a:r>
            <a:r>
              <a:rPr b="0" lang="ru-RU" sz="44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E:\профстандарт педагога\педсовет Дулесово\img099.jpg"/>
          <p:cNvPicPr/>
          <p:nvPr/>
        </p:nvPicPr>
        <p:blipFill>
          <a:blip r:embed="rId1"/>
          <a:stretch/>
        </p:blipFill>
        <p:spPr>
          <a:xfrm>
            <a:off x="5508720" y="2349360"/>
            <a:ext cx="33512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нцепция Стандар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профессиональное качество, которое педагог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постоянно демонстрировать своим ученикам –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читься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0" y="83664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станд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95280" y="1670760"/>
            <a:ext cx="8424720" cy="36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Профессиональный стандарт педагога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очный докуме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пределяю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ования к его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квалифик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ациональная рамка стандарта может бы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ена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региональными требования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читывающими социокультурные, демографические и прочие особенности данной территори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468360" y="1669680"/>
            <a:ext cx="846144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может быть такж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ен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внутренним стандартом образовательного учреждения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налогии со стандартом предприятия), в соответствии со спецификой реализуемых в данном учреждении образовательных программ (школа для одаренных, инклюзивная школа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ев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читывающим специфику работы педагогов в дошкольных учреждениях, начальной, основной и старше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 станд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0:31:00Z</dcterms:created>
  <dc:creator>СЕРГЕЙ</dc:creator>
  <dc:description/>
  <dc:language>en-US</dc:language>
  <cp:lastModifiedBy>USERZAV</cp:lastModifiedBy>
  <dcterms:modified xsi:type="dcterms:W3CDTF">2016-02-25T12:36:47Z</dcterms:modified>
  <cp:revision>72</cp:revision>
  <dc:subject/>
  <dc:title>Слайд 1</dc:title>
</cp:coreProperties>
</file>